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D6FC-FB26-43E5-BB9B-91F899EBAB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1702-EF0F-4E8E-9485-888BB3671AD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537-1C2E-4ABB-9730-9DD9ACB7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6AC-DF48-4079-8CD8-05A8A4E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9A4-9F52-4F64-BE6F-746F3CDD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104-8740-466D-A961-9942DD43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79C2-9822-468F-B08C-0C68C76B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2B15-CE1F-44E4-9CE7-9B58B1EB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3263-4A5B-4DF1-B91F-27B339E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7CE4-B656-4713-A5A0-D57AD58D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6584-A2EE-4565-90BA-A93D4D28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D68A-164D-4C3C-9571-DFCA24F1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1426-AECC-448F-9536-529B99C3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157-681D-4200-909E-D87614C6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E48F-76E0-4A33-8264-0069BEE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3E68-08EB-4FF5-A532-A2F12D91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2C02-B7D7-4CC9-9451-0781233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AEDB-825E-4055-8B3B-1ECCDFB7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84F8-927D-40DE-954C-4B9982F7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1012-E72A-4C8D-9DD2-7907B6A2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DA8C-68CB-4354-8F5E-1C1C17D8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2CD1-09D3-4044-AA4E-490EF3E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0381-A3DF-46C1-98E5-B43FE44D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1979-485B-44C1-81EA-1F8E485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767-5D8A-4F13-9671-B661A78F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1888-B411-4024-BF32-57782AF4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6163-BF0D-4A8E-89C2-AD922F60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208B-95C4-41AE-B008-D19D7CE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BE30-68FD-4501-80BD-E205FB39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6BE8-0B40-4F7B-9FC3-6E605539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85C9-68F7-406A-881C-D4AAA654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2A59-FE54-4C71-91E5-17A1126F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B98D-25FC-424F-8BA2-E63F912B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6319-2803-45B7-8897-02AC818C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23170-986E-4386-B13C-725FFC26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144-D786-42E7-92CE-8BF68032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8D5C4-4B21-4F6D-817F-EA9F921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D8FC-CBC1-473E-A60A-C7C17671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3BA9-693F-4EFC-B2BE-6DE2955B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22324-6976-4302-B037-5A309DEB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426A-3861-4811-93BD-EC3C15C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A5496-9B14-40E9-BFFD-64B95890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0679-D764-45AE-A1F3-24A8AE7B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BEC6-6042-43D4-B12E-9F761FA6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0A525-B7EC-4CBE-922F-D1E94BA4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41F-2F8C-4F0D-A375-00005EF9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BEA-8941-40BC-B822-2787ACDE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2BF-2D65-4F90-AB07-B76A58D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90E-F371-4066-94E1-6EAB4162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B92-2538-4917-8799-5A56DF2B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CC94-8841-4021-BF0D-8CE2EEE3F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5B5-F808-4023-9524-DFDA1C82792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9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B996-4152-42EE-B050-097DB79B1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8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8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9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9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9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50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E0BA-E092-45E4-961E-3F8400F3B7A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russian-flag-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Tchaikovsky, 1812 Overture (Finale).mp3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0803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6" descr="2010-04-24-479pxivan_the_terrible_cropped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5" descr="napoleon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Educated Russians wanted freedom, equality, and more democracy but the czars ignor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Gothic"/>
              </a:rPr>
              <a:t>World Wa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1914-World War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n and German soldiers fought against each other in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 got defeated many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Only a few vi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Food shortage caused starvation of Russi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entury Gothic"/>
              </a:rPr>
              <a:t>Russian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917-soldiers, political leaders, and factory workers forced Czar Nicholas II to give up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Vladimir Lenin leads Russian Revolution and gets 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ts up a communist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n moves capital from St. Petersburg to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4"/>
          <p:cNvSpPr txBox="1"/>
          <p:nvPr/>
        </p:nvSpPr>
        <p:spPr>
          <a:xfrm>
            <a:off x="1523880" y="441972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!!!!!!! :)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WordArt 5"/>
          <p:cNvSpPr txBox="1"/>
          <p:nvPr/>
        </p:nvSpPr>
        <p:spPr>
          <a:xfrm>
            <a:off x="228600" y="0"/>
            <a:ext cx="865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It's always tougher in Russia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pic>
        <p:nvPicPr>
          <p:cNvPr id="589" name="Picture 7" descr="kremlin_and_red_square_fireworks,_moscow,_russia"/>
          <p:cNvPicPr/>
          <p:nvPr/>
        </p:nvPicPr>
        <p:blipFill>
          <a:blip r:embed="rId1"/>
          <a:stretch/>
        </p:blipFill>
        <p:spPr>
          <a:xfrm>
            <a:off x="3124080" y="19810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Dan Nguyen</cp:lastModifiedBy>
  <dcterms:modified xsi:type="dcterms:W3CDTF">2010-12-20T21:32:19Z</dcterms:modified>
  <cp:revision>8</cp:revision>
  <dc:subject/>
  <dc:title>The History of Russia until 1917</dc:title>
</cp:coreProperties>
</file>